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BA3-6C92-4CA2-AC2A-F797CBEF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50E-2898-4804-8217-4AD86681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18B-6625-4BCC-BD54-EB25A762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7CB-4B81-4B4E-8B74-D67E92D0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2F6-6F14-437B-AA6F-227873F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96C-F21A-4749-911B-7FB1B786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DB7-0064-4F5F-98CE-1DA91107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367-12CF-4FE1-8047-FA358959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7A8-179B-4C8D-B761-E4BD1796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952-8F0C-4784-8BBD-BF8ADB36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BBC-204C-4837-8E2F-A94AE0C5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E52-7ABA-43E3-961B-660D7BB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86A0-5F40-4368-9261-E85B31806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29400" y="594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86600" y="6491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A2A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the Personnel Organization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4280" y="76320"/>
            <a:ext cx="844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sto MT"/>
              </a:rPr>
              <a:t>Tactical Employment of Maneuver Battalion S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71600" y="685800"/>
            <a:ext cx="8204040" cy="3003480"/>
            <a:chOff x="471600" y="685800"/>
            <a:chExt cx="8204040" cy="3003480"/>
          </a:xfrm>
        </p:grpSpPr>
        <p:grpSp>
          <p:nvGrpSpPr>
            <p:cNvPr id="143" name=""/>
            <p:cNvGrpSpPr/>
            <p:nvPr/>
          </p:nvGrpSpPr>
          <p:grpSpPr>
            <a:xfrm>
              <a:off x="471600" y="811080"/>
              <a:ext cx="8204040" cy="2721240"/>
              <a:chOff x="471600" y="811080"/>
              <a:chExt cx="8204040" cy="2721240"/>
            </a:xfrm>
          </p:grpSpPr>
          <p:sp>
            <p:nvSpPr>
              <p:cNvPr id="144" name=""/>
              <p:cNvSpPr/>
              <p:nvPr/>
            </p:nvSpPr>
            <p:spPr>
              <a:xfrm>
                <a:off x="471600" y="811080"/>
                <a:ext cx="2717640" cy="2721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14800" y="811080"/>
                <a:ext cx="2717640" cy="2721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58000" y="811080"/>
                <a:ext cx="2717640" cy="2721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041880" y="2163960"/>
              <a:ext cx="255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343400" y="798480"/>
              <a:ext cx="3216240" cy="2746440"/>
              <a:chOff x="4343400" y="798480"/>
              <a:chExt cx="3216240" cy="2746440"/>
            </a:xfrm>
          </p:grpSpPr>
          <p:sp>
            <p:nvSpPr>
              <p:cNvPr id="149" name=""/>
              <p:cNvSpPr/>
              <p:nvPr/>
            </p:nvSpPr>
            <p:spPr>
              <a:xfrm>
                <a:off x="4343400" y="333216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343400" y="79848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02440" y="333216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02440" y="79848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02440" y="2067120"/>
                <a:ext cx="45720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465800" y="685800"/>
              <a:ext cx="2981160" cy="3003480"/>
              <a:chOff x="4465800" y="685800"/>
              <a:chExt cx="2981160" cy="300348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4465800" y="685800"/>
                <a:ext cx="215640" cy="270000"/>
                <a:chOff x="4465800" y="685800"/>
                <a:chExt cx="215640" cy="270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465800" y="68580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81440" y="68580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465800" y="3419640"/>
                <a:ext cx="215640" cy="269640"/>
                <a:chOff x="4465800" y="3419640"/>
                <a:chExt cx="215640" cy="2696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465800" y="341964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681440" y="341964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7230960" y="685800"/>
                <a:ext cx="216000" cy="270000"/>
                <a:chOff x="7230960" y="685800"/>
                <a:chExt cx="216000" cy="270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230960" y="68580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446960" y="68580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7230960" y="3419640"/>
                <a:ext cx="216000" cy="269640"/>
                <a:chOff x="7230960" y="3419640"/>
                <a:chExt cx="216000" cy="2696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230960" y="341964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446960" y="341964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7230960" y="2038320"/>
                <a:ext cx="216000" cy="270000"/>
                <a:chOff x="7230960" y="2038320"/>
                <a:chExt cx="216000" cy="270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230960" y="203832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446960" y="203832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" name=""/>
            <p:cNvSpPr/>
            <p:nvPr/>
          </p:nvSpPr>
          <p:spPr>
            <a:xfrm>
              <a:off x="595440" y="1247760"/>
              <a:ext cx="2441520" cy="1828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039320" y="1569960"/>
              <a:ext cx="1544760" cy="1130040"/>
              <a:chOff x="1039320" y="1569960"/>
              <a:chExt cx="1544760" cy="1130040"/>
            </a:xfrm>
          </p:grpSpPr>
          <p:sp>
            <p:nvSpPr>
              <p:cNvPr id="172" name=""/>
              <p:cNvSpPr/>
              <p:nvPr/>
            </p:nvSpPr>
            <p:spPr>
              <a:xfrm>
                <a:off x="1138320" y="1714680"/>
                <a:ext cx="1349280" cy="888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219320" y="1618920"/>
                <a:ext cx="118728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1039320" y="1618920"/>
                <a:ext cx="154476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24000" y="2484360"/>
                <a:ext cx="11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65120" y="1895400"/>
                <a:ext cx="895320" cy="527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1704960" y="1569960"/>
                <a:ext cx="216000" cy="44640"/>
                <a:chOff x="1704960" y="1569960"/>
                <a:chExt cx="216000" cy="44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704960" y="156996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920960" y="156996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" name=""/>
            <p:cNvGrpSpPr/>
            <p:nvPr/>
          </p:nvGrpSpPr>
          <p:grpSpPr>
            <a:xfrm>
              <a:off x="3798360" y="1577880"/>
              <a:ext cx="1544760" cy="1438560"/>
              <a:chOff x="3798360" y="1577880"/>
              <a:chExt cx="1544760" cy="1438560"/>
            </a:xfrm>
          </p:grpSpPr>
          <p:sp>
            <p:nvSpPr>
              <p:cNvPr id="181" name=""/>
              <p:cNvSpPr/>
              <p:nvPr/>
            </p:nvSpPr>
            <p:spPr>
              <a:xfrm>
                <a:off x="3897360" y="1722600"/>
                <a:ext cx="1349280" cy="888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3978360" y="1626840"/>
                <a:ext cx="118728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3798360" y="1626840"/>
                <a:ext cx="154476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983040" y="2492280"/>
                <a:ext cx="11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24160" y="1903320"/>
                <a:ext cx="895680" cy="527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4464000" y="1577880"/>
                <a:ext cx="216000" cy="44640"/>
                <a:chOff x="4464000" y="1577880"/>
                <a:chExt cx="216000" cy="446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464000" y="157788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680000" y="157788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897360" y="2725920"/>
                <a:ext cx="0" cy="29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523880" y="85572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6160" y="1968480"/>
              <a:ext cx="180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43400" y="33526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8380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8380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205740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45320" y="117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39720" y="2322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3733920"/>
            <a:ext cx="266688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640" y="3733920"/>
            <a:ext cx="25135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N S1 (RE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ME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READ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UALTY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 PERSONNE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AL OPE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DS &amp; DECO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UPPORT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SUPPORT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733920"/>
            <a:ext cx="30481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3733920"/>
            <a:ext cx="2797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 (FORW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NGTH REPOR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S, ORDERS, ESTIM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Modular Postal Compa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1219320"/>
            <a:ext cx="17524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5120" y="1230480"/>
            <a:ext cx="16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1640" y="163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0/3/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45920" y="1143000"/>
            <a:ext cx="1742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2 42B OPNS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L 1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 PERS ADMIN S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13372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2438280"/>
            <a:ext cx="13716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2133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08760" y="2471760"/>
            <a:ext cx="128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ON H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4640" y="28954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20240" y="2496960"/>
            <a:ext cx="155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2 42A PLATOON L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L  PLATOO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2438280"/>
            <a:ext cx="13716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2133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33400" y="2471760"/>
            <a:ext cx="128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ON H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94000" y="28954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8200" y="2421000"/>
            <a:ext cx="155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2 42E PLATOON L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L  PLATOO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3429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429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4114800"/>
            <a:ext cx="14475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411480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34290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3429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3429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4114800"/>
            <a:ext cx="14475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411480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640" y="422424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4267080"/>
            <a:ext cx="13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CIVES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16640" y="414828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01840" y="4148280"/>
            <a:ext cx="120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E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74440" y="47242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8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360" y="47242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8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6880" y="47242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13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72720" y="4681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13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03920" y="216684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/0/17/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4216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2240" y="216360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/0/17/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2800" y="7984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47L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2400" y="7984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/0/3/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1080" y="5062680"/>
            <a:ext cx="241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42L PSTL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52D PWR-GEN EQPT 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63S HVY WH VEH MECH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42L PSTL CLK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6120" y="5062680"/>
            <a:ext cx="182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6  42L PSTL SUP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 42L PSTL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 42L PSTL SPEC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 42L PSTL CLK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34290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55800" y="5062680"/>
            <a:ext cx="228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6 42L PSTL 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42L PSTL SGT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52D PWR-GEN EQPT 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42L PSTL SPEC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42L PSTL CLK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49480" y="506268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42L PSTL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42L PSTL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42L PSTL 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314280"/>
            <a:ext cx="814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sto MT"/>
              </a:rPr>
              <a:t>Replacement Battalion (OCONU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219320"/>
            <a:ext cx="16765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1252440"/>
            <a:ext cx="17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1295280"/>
            <a:ext cx="18288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560" y="14810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0/2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98800" y="1328760"/>
            <a:ext cx="1758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5 42B COMM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4 42B X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4 42B S2/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3 42B 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3 92B S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  OOZ C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 42L ADMIN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77440" y="8748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0/33/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133720"/>
            <a:ext cx="21337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4960" y="21636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 H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6160" y="22860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5/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666880"/>
            <a:ext cx="21337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0480" y="2666880"/>
            <a:ext cx="2134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7 42A DET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42A PERS ADMIN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92G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914400" y="182880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1828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350532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038480"/>
            <a:ext cx="18288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4038480"/>
            <a:ext cx="16002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40384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/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16600" y="4148280"/>
            <a:ext cx="173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MENT 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4038480"/>
            <a:ext cx="15238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4038480"/>
            <a:ext cx="15238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88620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5120" y="40384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41040" y="4114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2640" y="41911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5/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62280" y="4191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0/17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560" y="41911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4/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47242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9608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800100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4876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50292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05720" y="5181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53341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400800" y="4724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553080" y="4876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0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85800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153280" y="4419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83059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845820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61048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000640" y="4419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153280" y="4572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30556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457840" y="4876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37240" y="449568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6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4495680"/>
            <a:ext cx="167652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4495680"/>
            <a:ext cx="182880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62520" y="4495680"/>
            <a:ext cx="18288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5160" y="4630680"/>
            <a:ext cx="1771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SR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27D LEGAL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L ADMI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L ADMIN C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66680" y="4505400"/>
            <a:ext cx="189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3 42B OPS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3 88B MVMNT CTRL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8 42A OPNS S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7 54B NBC STAFF 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7 42A OPNS S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6 88N MVMNT SUP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5 42L ADMIN S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5 42A PERS SVC SGT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5 88N TRANS MGT 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4 41L ADMIN 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4 42A PERS SVC S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5 88N TRANS MGT COO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3 42L SMDIN CL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3 42A PERS SVC CLK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3 88N TRANS MGT COORD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18288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24440" y="4444920"/>
            <a:ext cx="170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PROP BOOK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360" y="314280"/>
            <a:ext cx="844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sto MT"/>
              </a:rPr>
              <a:t>Replacement Company (OCONU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1447920"/>
            <a:ext cx="5257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61440" y="153504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ONUS REPLACEMENT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1981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012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2895480"/>
            <a:ext cx="18288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2895480"/>
            <a:ext cx="18288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2895480"/>
            <a:ext cx="18288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81680" y="2895480"/>
            <a:ext cx="18288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243828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960" y="297180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62360" y="2971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45680" y="29718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19560" y="2895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O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4038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41911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76312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8915400" y="33523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858000" y="3885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01028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8610480" y="3200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762760" y="3352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18520" y="1027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0/37/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25280" y="35924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0/14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67000" y="35924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0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3920" y="35924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5/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84000" y="35924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8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3962520"/>
            <a:ext cx="18288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3962520"/>
            <a:ext cx="19047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4038480"/>
            <a:ext cx="182880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81680" y="4419720"/>
            <a:ext cx="221004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79160" y="4452840"/>
            <a:ext cx="218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7 42A PLATOON SGT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42A PERS SVC SPEC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53280" y="4038480"/>
            <a:ext cx="1788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6 92Y SECTION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92Y SUPPLY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92Y ARMOR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Y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92Y SUPPLY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26040" y="4021200"/>
            <a:ext cx="1834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2 42B OPS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SR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88N TRANS MGMT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88N TRANS MGM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7080" y="4021200"/>
            <a:ext cx="17917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A 1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92G SR FOOD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92G SR FIRST C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54B NBC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G C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G COOK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G COOK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360" y="228600"/>
            <a:ext cx="844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Replacement Battal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1219320"/>
            <a:ext cx="1676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4680" y="8748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0/29/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70000" y="1353960"/>
            <a:ext cx="145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HD, REPL BN (CR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1676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182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182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2057400"/>
            <a:ext cx="16761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057400"/>
            <a:ext cx="16761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66680" y="2117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 HQ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30640" y="205740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 HQ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7520" y="23464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0/3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05720" y="2057400"/>
            <a:ext cx="18288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38480" y="2057400"/>
            <a:ext cx="1791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DET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8954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188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1460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32004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32004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32004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32004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38880" y="32004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510552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10552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5105520"/>
            <a:ext cx="1524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320" y="3733920"/>
            <a:ext cx="15238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3733920"/>
            <a:ext cx="1523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5638680"/>
            <a:ext cx="152388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5638680"/>
            <a:ext cx="16765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38680" y="5638680"/>
            <a:ext cx="17528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0280" y="3733920"/>
            <a:ext cx="175284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4876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487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487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7080" y="335268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S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93240" y="3336840"/>
            <a:ext cx="116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STRY T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9760" y="333684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1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44480" y="333684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2/S-3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80800" y="333684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4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92520" y="3809880"/>
            <a:ext cx="136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56M CHAP AS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26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1828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29000" y="3733920"/>
            <a:ext cx="18288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67280" y="36576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6040" y="3792600"/>
            <a:ext cx="177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SR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L ADMI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L ADMIN SPEC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8800" y="28954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/0/1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77600" y="28954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/0/1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77800" y="28954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/0/6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25560" y="2879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/0/5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720" y="3792600"/>
            <a:ext cx="1486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5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X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S2/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56A CHAPLAI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9 OOZ C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96960" y="3792600"/>
            <a:ext cx="17856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ASST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PROP BOOK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4120" y="510552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2/S-3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90160" y="510552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 &amp; ADMI SPT B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45680" y="516420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VMNTS B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57040" y="53164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4/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09520" y="53341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5/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95560" y="53341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4/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21120" y="5697360"/>
            <a:ext cx="1400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OPNS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A OPN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OPN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L ADMIN C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73600" y="5697360"/>
            <a:ext cx="1736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25720" y="5697360"/>
            <a:ext cx="177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REPL MGT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360" y="314280"/>
            <a:ext cx="844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Replacement Comp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295280"/>
            <a:ext cx="45720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91240" y="1447920"/>
            <a:ext cx="42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 COMPANY (C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38640" y="9255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0/23/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19810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2666880"/>
            <a:ext cx="617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629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2280" y="2971800"/>
            <a:ext cx="21337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71800" y="2971800"/>
            <a:ext cx="21337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2971800"/>
            <a:ext cx="21337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4038480"/>
            <a:ext cx="2286000" cy="175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4114800"/>
            <a:ext cx="259092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4419720"/>
            <a:ext cx="24382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1880" y="3124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34520" y="3276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68680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248520" y="3886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400440" y="40384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55272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248520" y="3809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400800" y="3885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55308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22924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381880" y="3276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534160" y="3429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1960" y="2982960"/>
            <a:ext cx="16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99120" y="35053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0/6/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24240" y="3211560"/>
            <a:ext cx="178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NS S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0/5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09640" y="3059280"/>
            <a:ext cx="303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REP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O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12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55280" y="4430880"/>
            <a:ext cx="2401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7 42A PLATOON SGT 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5 42A PERS SVC SGT 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42A PERS SVC SPC 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55600" y="4125960"/>
            <a:ext cx="243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2 42B OPERATIONS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7 42A SR PERS SVC S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5 42A PERS SVC S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42A PERS SVC S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3 42A PERS SVC CLK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6440" y="4049640"/>
            <a:ext cx="2340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3 42B COMMA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 42A 1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6 92Y SUPPLY S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42A PERS ADMIN S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92Y ARMO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92Y SUPPLY S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3 92Y SUPPLY S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0880" y="3142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sto MT"/>
              </a:rPr>
              <a:t>HQS, Personnel Services Battal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5320" y="1143000"/>
            <a:ext cx="205740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65440" y="1279440"/>
            <a:ext cx="1844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99520" y="18572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/0/3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19920" y="1066680"/>
            <a:ext cx="259056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79680" y="1066680"/>
            <a:ext cx="243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5 42B COMMA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4 42B X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3 42B OPNS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9 OOZ C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 42A SR PERS SVC S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2209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2819520"/>
            <a:ext cx="220968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276720"/>
            <a:ext cx="15238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2819520"/>
            <a:ext cx="221004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3276720"/>
            <a:ext cx="15238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03680" y="3386160"/>
            <a:ext cx="145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27560" y="38606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12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74320" y="3309840"/>
            <a:ext cx="112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NS &amp;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22400" y="384336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9/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9072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00100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3868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0040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5181480"/>
            <a:ext cx="15238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38280" y="5181480"/>
            <a:ext cx="152424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5181480"/>
            <a:ext cx="15238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15200" y="5105520"/>
            <a:ext cx="15238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472428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5443560"/>
            <a:ext cx="116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43200" y="5445000"/>
            <a:ext cx="116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7040" y="5443560"/>
            <a:ext cx="116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581240" y="541008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40120" y="2955960"/>
            <a:ext cx="2109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63B SR MAINT SUP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A OPN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54B NBC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6B INTEL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31U SIGNAL INFO SVC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6000" y="2819520"/>
            <a:ext cx="19821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A 1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92G SR FOOD OPN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92G SR FIRST C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ADMI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G C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A EQUIP REC/PARTS 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G COOK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G COOK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1120" y="798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0/24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7644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Personnel Detach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6200" y="106668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2200" y="914400"/>
            <a:ext cx="22096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2428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5909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00800" y="25909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25909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888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581280"/>
            <a:ext cx="1600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3581280"/>
            <a:ext cx="1828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38880" y="3581280"/>
            <a:ext cx="1600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41911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41911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00800" y="41911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5334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66688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4379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1932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819520" y="4572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590560" y="4572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74880" y="4202280"/>
            <a:ext cx="147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2240" y="2602080"/>
            <a:ext cx="147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97360" y="1077840"/>
            <a:ext cx="16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48120" y="2602080"/>
            <a:ext cx="132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62720" y="2678040"/>
            <a:ext cx="132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95840" y="4202280"/>
            <a:ext cx="132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62720" y="4202280"/>
            <a:ext cx="132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35680" y="3639960"/>
            <a:ext cx="164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41760" y="3639960"/>
            <a:ext cx="156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35720" y="363996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74B SOFTWARE A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60680" y="914400"/>
            <a:ext cx="2184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2 420A  MIL PERS 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DET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52D PWR-GEN EQUIP R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Y SUPPLY SPEC/ARM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3880" y="22096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7440" y="7221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1/49/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7360" y="1687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/5/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35480" y="320040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2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9520" y="321156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2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98280" y="321156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1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59600" y="481176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6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4040" y="51055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6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09320" y="52927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6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5638680"/>
            <a:ext cx="22096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57600" y="5562720"/>
            <a:ext cx="24382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29400" y="5562720"/>
            <a:ext cx="22096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625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62520" y="5334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1480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5627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715000" y="4572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533376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486040" y="4572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057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05720" y="5334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83059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8610480" y="4572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80006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8305920" y="4572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85840" y="48592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3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61800" y="50878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3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90400" y="53164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3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24120" y="48592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4/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81320" y="50878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4/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86240" y="53164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4/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49880" y="5621400"/>
            <a:ext cx="18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 (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 (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44280" y="5621400"/>
            <a:ext cx="239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75F PERS INFO SYS MGT SGT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75F PERS INFO SYS MGT SP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75F PERS INFO SYS MGT CLK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693480" y="5621400"/>
            <a:ext cx="18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764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Personnel Gro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990720"/>
            <a:ext cx="2210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55960" y="97488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HD, PERS G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1066680"/>
            <a:ext cx="220968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77120" y="1066680"/>
            <a:ext cx="220968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1828800"/>
            <a:ext cx="14479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 HQ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1828800"/>
            <a:ext cx="1676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66880" y="2895480"/>
            <a:ext cx="1752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48320" y="2895480"/>
            <a:ext cx="1752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2895480"/>
            <a:ext cx="1752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086600" y="2895480"/>
            <a:ext cx="1752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3429000"/>
            <a:ext cx="17524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3429000"/>
            <a:ext cx="17528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48320" y="3352680"/>
            <a:ext cx="175248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52680" y="16002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268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266688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7920" y="26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77320" y="26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86600" y="3429000"/>
            <a:ext cx="1752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4343400"/>
            <a:ext cx="1752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38880" y="4267080"/>
            <a:ext cx="17528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5181480"/>
            <a:ext cx="1752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66880" y="5181480"/>
            <a:ext cx="1752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00600" y="5181480"/>
            <a:ext cx="1752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3520" y="5638680"/>
            <a:ext cx="18288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5638680"/>
            <a:ext cx="2210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724280" y="5638680"/>
            <a:ext cx="198144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79640" y="1811160"/>
            <a:ext cx="145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4400" y="297180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1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98000" y="295416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2/S-3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1360" y="295416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4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77840" y="29718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D OPS D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41560" y="4327560"/>
            <a:ext cx="107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 OPS D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5320" y="1066680"/>
            <a:ext cx="1780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6 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5 42B DEP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S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S-2/S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90A S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9 OOZ C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L ADMI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L ADMIN C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65600" y="1125360"/>
            <a:ext cx="2184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DET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54B DECO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G C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Y SUPPLY SPEC/ARM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41400" y="19810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0/4/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0960" y="20113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7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4000" y="2641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3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17720" y="2666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0/4/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698800" y="2666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1/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213400" y="26240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3080" y="5240160"/>
            <a:ext cx="156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ENGTH MGT S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746080" y="5240160"/>
            <a:ext cx="14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INFO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73600" y="5257800"/>
            <a:ext cx="177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FF ACTIONS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95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62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93840" y="49100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0/14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04960" y="49100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0/5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7240" y="4952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1/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74000" y="3429000"/>
            <a:ext cx="140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225560" y="4267080"/>
            <a:ext cx="17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5 42B CHIEF PERS 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A OPN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35360" y="3352680"/>
            <a:ext cx="150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3 920A PAT/P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29400" y="266688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53920" y="3487680"/>
            <a:ext cx="16484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OPS OFFI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54B NBC STAFF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0200" y="341316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27D LEGAL N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7120" y="5697360"/>
            <a:ext cx="1834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STR MGT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SR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 (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65560" y="5622840"/>
            <a:ext cx="22852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PERS MGT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75F PERS INFO SYS MGT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74B SOFTWARE ANALY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75F PERS INFO SYS MGT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74B SOFTWARE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15280" y="5715000"/>
            <a:ext cx="1834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5 420A MIL PERS 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4876920"/>
            <a:ext cx="426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48640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808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sto MT"/>
              </a:rPr>
              <a:t>Personnel Command (PERSCO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33920" y="91440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10080" y="167652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434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33920" y="2209680"/>
            <a:ext cx="12189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95680" y="320040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95680" y="274320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743200" y="365760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43200" y="320040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43200" y="274320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25909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14800" y="2895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95280" y="434340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90920" y="4495680"/>
            <a:ext cx="12189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4495680"/>
            <a:ext cx="12193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62720" y="4495680"/>
            <a:ext cx="12189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67480" y="4495680"/>
            <a:ext cx="12193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95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8080" y="5181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52578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2280" y="5257800"/>
            <a:ext cx="11430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52480" y="59436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5943600"/>
            <a:ext cx="838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57600" y="5943600"/>
            <a:ext cx="838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0" y="5791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124080" y="4876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1680" y="5257800"/>
            <a:ext cx="10670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001000" y="52578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6172200" y="4876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5943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486400" y="5943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00800" y="5943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315200" y="5943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229600" y="5943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24280" y="57913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61048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86728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78168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62012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11480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28600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0040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077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2012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620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838188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7640" y="876240"/>
            <a:ext cx="13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COM C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 G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42240" y="168768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4256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EF OF STA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90640" y="2803680"/>
            <a:ext cx="10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1, S2, S3, 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031200" y="321156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07280" y="3641760"/>
            <a:ext cx="114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MINIST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04960" y="2830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02400" y="28195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H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02040" y="321156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89560" y="4479840"/>
            <a:ext cx="86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 O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46440" y="4495680"/>
            <a:ext cx="90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 SV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24280" y="4506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 D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468200" y="45068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AL D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2320" y="5316480"/>
            <a:ext cx="101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S &amp; 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417680" y="5316480"/>
            <a:ext cx="14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G RANGE PL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995880" y="524196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951320" y="5241960"/>
            <a:ext cx="103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77680" y="6002280"/>
            <a:ext cx="81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 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68400" y="6002280"/>
            <a:ext cx="81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 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11160" y="6002280"/>
            <a:ext cx="88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UAL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635000" y="6002280"/>
            <a:ext cx="63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Q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72360" y="6031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463440" y="60310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01520" y="603108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215200" y="60310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277840" y="638496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/7/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67120" y="50115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2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95360" y="4554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0/7/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900120" y="4554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2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90640" y="53164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2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57120" y="32590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/1/3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75840" y="28782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3/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95360" y="23446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3/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668640" y="18111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8120" y="280188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0/9/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58480" y="32590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8480" y="373392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95120" y="4554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4/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680" y="450684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2080" y="562140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/0/7/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661400" y="56214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0/2/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813680" y="6400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2/20/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04040" y="6400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/1/12/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718440" y="6400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0/16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632840" y="6400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0/12/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71280" y="6400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0/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63831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2/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300080" y="63831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4/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the Personnel Organizatio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3520" y="2813040"/>
            <a:ext cx="8204040" cy="3003480"/>
            <a:chOff x="533520" y="2813040"/>
            <a:chExt cx="8204040" cy="3003480"/>
          </a:xfrm>
        </p:grpSpPr>
        <p:grpSp>
          <p:nvGrpSpPr>
            <p:cNvPr id="52" name=""/>
            <p:cNvGrpSpPr/>
            <p:nvPr/>
          </p:nvGrpSpPr>
          <p:grpSpPr>
            <a:xfrm>
              <a:off x="533520" y="2938320"/>
              <a:ext cx="8204040" cy="2721240"/>
              <a:chOff x="533520" y="2938320"/>
              <a:chExt cx="8204040" cy="2721240"/>
            </a:xfrm>
          </p:grpSpPr>
          <p:sp>
            <p:nvSpPr>
              <p:cNvPr id="53" name=""/>
              <p:cNvSpPr/>
              <p:nvPr/>
            </p:nvSpPr>
            <p:spPr>
              <a:xfrm>
                <a:off x="533520" y="2938320"/>
                <a:ext cx="2717640" cy="272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276720" y="2938320"/>
                <a:ext cx="2717640" cy="272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19920" y="2938320"/>
                <a:ext cx="2717640" cy="272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103800" y="4290840"/>
              <a:ext cx="255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405320" y="2925720"/>
              <a:ext cx="3216240" cy="2746440"/>
              <a:chOff x="4405320" y="2925720"/>
              <a:chExt cx="3216240" cy="2746440"/>
            </a:xfrm>
          </p:grpSpPr>
          <p:sp>
            <p:nvSpPr>
              <p:cNvPr id="58" name=""/>
              <p:cNvSpPr/>
              <p:nvPr/>
            </p:nvSpPr>
            <p:spPr>
              <a:xfrm>
                <a:off x="4405320" y="545940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05320" y="292572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64360" y="545940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64360" y="292572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164360" y="419400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4527720" y="2813040"/>
              <a:ext cx="2981160" cy="3003480"/>
              <a:chOff x="4527720" y="2813040"/>
              <a:chExt cx="2981160" cy="300348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4527720" y="2813040"/>
                <a:ext cx="215640" cy="270000"/>
                <a:chOff x="4527720" y="2813040"/>
                <a:chExt cx="215640" cy="27000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27720" y="281304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743360" y="281304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527720" y="5546880"/>
                <a:ext cx="215640" cy="269640"/>
                <a:chOff x="4527720" y="5546880"/>
                <a:chExt cx="215640" cy="2696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527720" y="554688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43360" y="554688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7292880" y="2813040"/>
                <a:ext cx="216000" cy="270000"/>
                <a:chOff x="7292880" y="2813040"/>
                <a:chExt cx="216000" cy="2700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292880" y="281304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508880" y="281304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7292880" y="5546880"/>
                <a:ext cx="216000" cy="269640"/>
                <a:chOff x="7292880" y="5546880"/>
                <a:chExt cx="216000" cy="2696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7292880" y="554688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508880" y="554688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7292880" y="4165560"/>
                <a:ext cx="216000" cy="270000"/>
                <a:chOff x="7292880" y="4165560"/>
                <a:chExt cx="216000" cy="270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7292880" y="416556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508880" y="416556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"/>
            <p:cNvSpPr/>
            <p:nvPr/>
          </p:nvSpPr>
          <p:spPr>
            <a:xfrm>
              <a:off x="657360" y="3375000"/>
              <a:ext cx="2441520" cy="1828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101240" y="3697200"/>
              <a:ext cx="1544760" cy="1130040"/>
              <a:chOff x="1101240" y="3697200"/>
              <a:chExt cx="1544760" cy="1130040"/>
            </a:xfrm>
          </p:grpSpPr>
          <p:sp>
            <p:nvSpPr>
              <p:cNvPr id="81" name=""/>
              <p:cNvSpPr/>
              <p:nvPr/>
            </p:nvSpPr>
            <p:spPr>
              <a:xfrm>
                <a:off x="1200240" y="3841920"/>
                <a:ext cx="1349280" cy="888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1281240" y="3746160"/>
                <a:ext cx="118728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1101240" y="3746160"/>
                <a:ext cx="154476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285920" y="4611600"/>
                <a:ext cx="11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27040" y="4022640"/>
                <a:ext cx="895320" cy="527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1766880" y="3697200"/>
                <a:ext cx="216000" cy="44640"/>
                <a:chOff x="1766880" y="3697200"/>
                <a:chExt cx="216000" cy="446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766880" y="369720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982880" y="369720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" name=""/>
            <p:cNvGrpSpPr/>
            <p:nvPr/>
          </p:nvGrpSpPr>
          <p:grpSpPr>
            <a:xfrm>
              <a:off x="3860280" y="3705120"/>
              <a:ext cx="1544760" cy="1438560"/>
              <a:chOff x="3860280" y="3705120"/>
              <a:chExt cx="1544760" cy="1438560"/>
            </a:xfrm>
          </p:grpSpPr>
          <p:sp>
            <p:nvSpPr>
              <p:cNvPr id="90" name=""/>
              <p:cNvSpPr/>
              <p:nvPr/>
            </p:nvSpPr>
            <p:spPr>
              <a:xfrm>
                <a:off x="3959280" y="3849840"/>
                <a:ext cx="1349280" cy="888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040280" y="3754080"/>
                <a:ext cx="118728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3860280" y="3754080"/>
                <a:ext cx="154476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44960" y="4619520"/>
                <a:ext cx="11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86080" y="4030560"/>
                <a:ext cx="895680" cy="527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4525920" y="3705120"/>
                <a:ext cx="216000" cy="44640"/>
                <a:chOff x="4525920" y="3705120"/>
                <a:chExt cx="216000" cy="446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4525920" y="370512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741920" y="370512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959280" y="4853160"/>
                <a:ext cx="0" cy="29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569240" y="2957400"/>
              <a:ext cx="62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B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45200" y="4070520"/>
              <a:ext cx="605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F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7086600" y="29718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41911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541008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9718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541008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Review the Personnel Organization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:  Given access to FM 12-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Identified the Personnel Management Centers (PM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Identified the Operational Personne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(co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Identified the Personnel Command and Contro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alion S1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1363680"/>
            <a:ext cx="8229600" cy="2097000"/>
            <a:chOff x="457200" y="1363680"/>
            <a:chExt cx="8229600" cy="2097000"/>
          </a:xfrm>
        </p:grpSpPr>
        <p:cxnSp>
          <p:nvCxnSpPr>
            <p:cNvPr id="116" name="_s24601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5897880" y="493560"/>
              <a:ext cx="229320" cy="288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4600"/>
            <p:cNvCxnSpPr>
              <a:stCxn id="120" idx="0"/>
              <a:endCxn id="118" idx="2"/>
            </p:cNvCxnSpPr>
            <p:nvPr/>
          </p:nvCxnSpPr>
          <p:spPr>
            <a:xfrm flipV="1">
              <a:off x="4572000" y="182016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4599"/>
            <p:cNvCxnSpPr>
              <a:stCxn id="122" idx="0"/>
              <a:endCxn id="118" idx="2"/>
            </p:cNvCxnSpPr>
            <p:nvPr/>
          </p:nvCxnSpPr>
          <p:spPr>
            <a:xfrm flipH="1" flipV="1" rot="5400000">
              <a:off x="3017520" y="494640"/>
              <a:ext cx="229320" cy="288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24595"/>
            <p:cNvSpPr/>
            <p:nvPr/>
          </p:nvSpPr>
          <p:spPr>
            <a:xfrm>
              <a:off x="3214800" y="1363680"/>
              <a:ext cx="271440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NEL OFFI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24596"/>
            <p:cNvSpPr/>
            <p:nvPr/>
          </p:nvSpPr>
          <p:spPr>
            <a:xfrm>
              <a:off x="457200" y="2049480"/>
              <a:ext cx="2468520" cy="711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T SUPPOR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4597"/>
            <p:cNvSpPr/>
            <p:nvPr/>
          </p:nvSpPr>
          <p:spPr>
            <a:xfrm>
              <a:off x="3336840" y="2049480"/>
              <a:ext cx="2470320" cy="711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4598"/>
            <p:cNvSpPr/>
            <p:nvPr/>
          </p:nvSpPr>
          <p:spPr>
            <a:xfrm>
              <a:off x="6218280" y="2049480"/>
              <a:ext cx="2468520" cy="711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37560" y="2819160"/>
              <a:ext cx="2419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UDICIAL &amp; NONJUDICI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ONS/COURTS &amp; BOA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IMIN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43160" y="2819520"/>
            <a:ext cx="1708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/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819520"/>
            <a:ext cx="29545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 ACCOUN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READ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UALTY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ISTED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DATAB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M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DS &amp; DECO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&amp;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TY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S FOR: COMM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, CHAPLAIN ACTIVITI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MANAGEMENT, STRAGG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6440" y="313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alion S1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905120"/>
            <a:ext cx="289584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114800"/>
            <a:ext cx="289584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114800"/>
            <a:ext cx="335304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1828800"/>
            <a:ext cx="289584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2093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00" y="23256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39720" y="235116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9320" y="4114800"/>
            <a:ext cx="247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/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NK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175280"/>
            <a:ext cx="315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DICIAL &amp; NONJUDI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S/COURTS &amp; BO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76440" y="3142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Battalion S1 Organiz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523880"/>
            <a:ext cx="259056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1360" y="19447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1523880"/>
            <a:ext cx="3657600" cy="487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67400" y="1611360"/>
            <a:ext cx="37148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NGTH REPOR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READ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UALTY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LISTED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ER MANAGE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DATAB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ACEMENT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ARDS &amp; DECO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 &amp; LEA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ES FOR: COMMAND INFO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LAIN ACTIVITIES, STR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, STRAGGL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6T15:09:24Z</dcterms:created>
  <dc:creator>ADG</dc:creator>
  <dc:description/>
  <dc:language>en-US</dc:language>
  <cp:lastModifiedBy>Administrator</cp:lastModifiedBy>
  <cp:lastPrinted>1999-06-28T14:58:46Z</cp:lastPrinted>
  <dcterms:modified xsi:type="dcterms:W3CDTF">2005-08-17T18:08:29Z</dcterms:modified>
  <cp:revision>2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A\CCA5H10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1378173899</vt:r8>
  </property>
  <property fmtid="{D5CDD505-2E9C-101B-9397-08002B2CF9AE}" pid="23" name="_AuthorEmail">
    <vt:lpwstr>herbert.m.lenton@us.army.mil</vt:lpwstr>
  </property>
  <property fmtid="{D5CDD505-2E9C-101B-9397-08002B2CF9AE}" pid="24" name="_AuthorEmailDisplayName">
    <vt:lpwstr>Lenton, Herbert SFC</vt:lpwstr>
  </property>
  <property fmtid="{D5CDD505-2E9C-101B-9397-08002B2CF9AE}" pid="25" name="_EmailSubject">
    <vt:lpwstr>At LAST!!!!!</vt:lpwstr>
  </property>
  <property fmtid="{D5CDD505-2E9C-101B-9397-08002B2CF9AE}" pid="26" name="_ReviewingToolsShownOnce">
    <vt:lpwstr/>
  </property>
</Properties>
</file>